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12.jpeg" ContentType="image/jpeg"/>
  <Override PartName="/ppt/media/image8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16C8-F1BE-451F-8CAC-E5131F91F81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nd the Periodic 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classify (arrange) elements in different way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ly occurring/made by scienti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/liquid/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/non-me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nd the Periodic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classify (arrange) elements in different ways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/made by scient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/liquid/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/non-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2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– charge means 2 electrons more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– charge means 2 electrons more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to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tope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of the same el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have different mass numb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different numbers of neutrons in each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elements exist as a mixture of isotopes, e.g. chlorine has 2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have different mass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different numbers of neutrons in each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elements exist as a mixture of isotopes, e.g. chlorine has 2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ve 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lative atomic mass of an element is the average mass of all the isotopes of that el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lative atomic mass of chlorine is 35.5.  Chlorine has 2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isotope of mass 35 is present in the largest quant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ve atomic mass of an element is the average mass of all the isotopes of that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ve atomic mass of chlorine is 35.5.  Chlorine has 2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isotope of mass 35 is present in the largest qua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of the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lists the chemical elements in increas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arranges elements with similar chemical properties 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s (vertical column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elements in a group have simi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properties as they ha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number of outer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of the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lists the chemical elements in increas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arranges elements with similar chemical properties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s (vertical column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elements in a group have simi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properties as they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number of outer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of the elements is a useful way of classifying the ele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ertical column of elements in the periodic table is called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ments in the same group of the periodic table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ilar chemical proper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ble gases are a group of 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reactive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of the elements is a useful way of classifying th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tical column of elements in the periodic table is called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ments in the same group of the periodic table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chemical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ble gases are a group of 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active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s of elements have names: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1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groups 2 and 3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7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0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lkali 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ition 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alog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ble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s of elements have names: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1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groups 2 and 3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7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0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kali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bl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element is made up of very small particles call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of different elements have a different number called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have a very small, positively charg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, with negatively charged electrons outside the nucleus 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ev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element is made up of very small particles call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different elements have a different number calle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have a very small, positively char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, with negatively charged electrons outside the nucleus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cleus of every atom (except hydrogen) contains two partic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s (no charge / mass 1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energy levels outside the nucleus we f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(+ve charge / mass 1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(–ve charge / mas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1/2000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us of every atom (except hydrogen) contains two particles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s (no charge / mass 1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nergy levels outside the nucleus we f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(+ve charge / mass 1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(–ve charge / mas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1/2000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re neutral because the positive charge of the nucleus is equal to all of the negative charges of the electrons add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negative charg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positive 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re neutral because the numbers of protons and electrons are equal - the opposite charges canc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re neutral because the positive charge of the nucleus is equal to all of the negative charges of the electrons add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negative char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positive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re neutral because the numbers of protons and electrons are equal - the opposite charges canc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ide notation – how many protons, neutrons, and electrons in atom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toms have no charge, the number of electrons is the same as the number of protons. This atom has 17 electr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ide notation – how many protons, neutrons, and electrons in ato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toms have no charge, the number of electrons is the same as the number of protons. This atom has 17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+ charge means 1 electron less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+ charge means 1 electron less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97FF-7892-4DB9-90D6-A90EF754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F99C-DB00-4EBE-A639-907E58EE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F3CF-80F5-4607-93CF-4F0E50B7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C835-548D-4D75-BF80-5ECA5A379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E36B-B631-4F4D-BB96-6FEE564B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4C68-40E0-452F-AEFF-2FD0847D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22CD-E733-4EDF-9287-65792439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11B6-8A97-4A0B-B0F8-5EB512AC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1CE6-2283-435F-949D-AB583901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0289-3D33-4891-8C15-F3956D5A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C1A9-7532-4F3B-A993-7D61273F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98DF-6647-40E9-A57C-B30C317B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9423-4C9C-4BC4-892D-F5D36FAB38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s and the Periodic Table.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We can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classify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(arrange) elements in different ways:-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094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aturally occurring/made by scienti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09480" y="43434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solid/liquid/g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09480" y="5562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etal/non-me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9" descr=""/>
          <p:cNvPicPr/>
          <p:nvPr/>
        </p:nvPicPr>
        <p:blipFill>
          <a:blip r:embed="rId2"/>
          <a:stretch/>
        </p:blipFill>
        <p:spPr>
          <a:xfrm>
            <a:off x="4800600" y="4267080"/>
            <a:ext cx="1371600" cy="1027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" descr=""/>
          <p:cNvPicPr/>
          <p:nvPr/>
        </p:nvPicPr>
        <p:blipFill>
          <a:blip r:embed="rId3"/>
          <a:stretch/>
        </p:blipFill>
        <p:spPr>
          <a:xfrm>
            <a:off x="6248520" y="4267080"/>
            <a:ext cx="1371600" cy="1027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1" descr=""/>
          <p:cNvPicPr/>
          <p:nvPr/>
        </p:nvPicPr>
        <p:blipFill>
          <a:blip r:embed="rId4"/>
          <a:stretch/>
        </p:blipFill>
        <p:spPr>
          <a:xfrm>
            <a:off x="7740720" y="4267080"/>
            <a:ext cx="1403280" cy="1051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2" descr=""/>
          <p:cNvPicPr/>
          <p:nvPr/>
        </p:nvPicPr>
        <p:blipFill>
          <a:blip r:embed="rId5"/>
          <a:stretch/>
        </p:blipFill>
        <p:spPr>
          <a:xfrm>
            <a:off x="5029200" y="5486400"/>
            <a:ext cx="144792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3" descr=""/>
          <p:cNvPicPr/>
          <p:nvPr/>
        </p:nvPicPr>
        <p:blipFill>
          <a:blip r:embed="rId6"/>
          <a:stretch/>
        </p:blipFill>
        <p:spPr>
          <a:xfrm>
            <a:off x="6705720" y="5486400"/>
            <a:ext cx="1447560" cy="108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4" descr=""/>
          <p:cNvPicPr/>
          <p:nvPr/>
        </p:nvPicPr>
        <p:blipFill>
          <a:blip r:embed="rId7"/>
          <a:stretch/>
        </p:blipFill>
        <p:spPr>
          <a:xfrm>
            <a:off x="4952880" y="266688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304920" y="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clide notation – how many protons, neutrons, and electrons in 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6400800" y="1523880"/>
            <a:ext cx="762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12193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ass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protons + neutr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804000" y="1773360"/>
            <a:ext cx="2133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5da31e"/>
                </a:solidFill>
                <a:latin typeface="Times New Roman"/>
              </a:rPr>
              <a:t>O</a:t>
            </a:r>
            <a:r>
              <a:rPr b="1" lang="en-GB" sz="9600" spc="-1" strike="noStrike" baseline="30000">
                <a:solidFill>
                  <a:srgbClr val="5da31e"/>
                </a:solidFill>
                <a:latin typeface="Times New Roman"/>
              </a:rPr>
              <a:t>2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6553080" y="259092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0" y="25909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ic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number of prot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6227640" y="2565360"/>
            <a:ext cx="381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radley Hand ITC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6516720" y="314172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0" y="3962520"/>
            <a:ext cx="5181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mber of neutr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3851280" y="1557360"/>
            <a:ext cx="2397240" cy="19512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3995640" y="2924280"/>
            <a:ext cx="2089080" cy="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3"/>
          <p:cNvSpPr/>
          <p:nvPr/>
        </p:nvSpPr>
        <p:spPr>
          <a:xfrm flipV="1">
            <a:off x="4716360" y="3573360"/>
            <a:ext cx="1800360" cy="71928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685800" y="4648320"/>
            <a:ext cx="8458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2–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charge mean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2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electrons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mor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than the number of protons. This atom has 10 electron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5"/>
          <p:cNvSpPr/>
          <p:nvPr/>
        </p:nvSpPr>
        <p:spPr>
          <a:xfrm flipV="1">
            <a:off x="5562720" y="2742840"/>
            <a:ext cx="2590560" cy="205740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</a:rPr>
              <a:t>Isotopes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Isotopes are: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atoms of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same element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which have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different mass number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due to </a:t>
            </a:r>
            <a:r>
              <a:rPr b="1" lang="en-GB" sz="3600" spc="-1" strike="noStrike">
                <a:solidFill>
                  <a:srgbClr val="ab04cc"/>
                </a:solidFill>
                <a:latin typeface="Times New Roman"/>
              </a:rPr>
              <a:t>different numbers of neutron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in each nucleu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Most elements exist as a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mixture of isotope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, e.g. chlorine has 2 isotopes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116000" y="5156280"/>
            <a:ext cx="762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676520" y="5486400"/>
            <a:ext cx="1218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1116000" y="587700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5508720" y="5156280"/>
            <a:ext cx="86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6019920" y="5486400"/>
            <a:ext cx="1218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5508720" y="5877000"/>
            <a:ext cx="761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Relative atomic mass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relative atomic mas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an element is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average mass of all the isotope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that element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relative atomic mass of chlorine is 35.5.  Chlorine has 2 isotopes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971640" y="3860640"/>
            <a:ext cx="761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550880" y="3886200"/>
            <a:ext cx="121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990720" y="4724280"/>
            <a:ext cx="761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435640" y="3860640"/>
            <a:ext cx="89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5943600" y="3886200"/>
            <a:ext cx="121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5410080" y="4724280"/>
            <a:ext cx="762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80880" y="541008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imes New Roman"/>
              </a:rPr>
              <a:t>so the isotope of mass 35 is present in the largest quant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-100080"/>
            <a:ext cx="91440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Periodic Table of the Element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Periodic Table lists the chemical elements in increasing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atomic number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Periodic Table arranges elements with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similar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chemical properties in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groups (vertical columns)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All the elements in a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group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have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similar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chemical properties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as they have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same number of outer electron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87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Periodic Table of the element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is a useful way of classifying the elements.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A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vertical column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elements in the periodic table is called a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group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elements in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same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group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periodic table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have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similar chemical propertie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noble gase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are a group of very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unreactive element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62" name="Picture 1033" descr=""/>
          <p:cNvPicPr/>
          <p:nvPr/>
        </p:nvPicPr>
        <p:blipFill>
          <a:blip r:embed="rId1"/>
          <a:stretch/>
        </p:blipFill>
        <p:spPr>
          <a:xfrm>
            <a:off x="8317080" y="1484280"/>
            <a:ext cx="682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920" y="-3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s of elements have names: –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04920" y="7621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 1 -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213372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Between groups 2 and 3 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228600" y="365760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 7 -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8461440" y="0"/>
            <a:ext cx="682560" cy="24289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4724280" y="3657600"/>
            <a:ext cx="2667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 0 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9" descr=""/>
          <p:cNvPicPr/>
          <p:nvPr/>
        </p:nvPicPr>
        <p:blipFill>
          <a:blip r:embed="rId2"/>
          <a:stretch/>
        </p:blipFill>
        <p:spPr>
          <a:xfrm>
            <a:off x="5791320" y="5045040"/>
            <a:ext cx="1828800" cy="1812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/>
          <p:cNvPicPr/>
          <p:nvPr/>
        </p:nvPicPr>
        <p:blipFill>
          <a:blip r:embed="rId3"/>
          <a:stretch/>
        </p:blipFill>
        <p:spPr>
          <a:xfrm>
            <a:off x="4572000" y="609480"/>
            <a:ext cx="1676520" cy="1273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4"/>
          <a:stretch/>
        </p:blipFill>
        <p:spPr>
          <a:xfrm>
            <a:off x="6553080" y="2209680"/>
            <a:ext cx="1905120" cy="1465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"/>
          <p:cNvPicPr/>
          <p:nvPr/>
        </p:nvPicPr>
        <p:blipFill>
          <a:blip r:embed="rId5"/>
          <a:stretch/>
        </p:blipFill>
        <p:spPr>
          <a:xfrm>
            <a:off x="685800" y="4952880"/>
            <a:ext cx="2819520" cy="2133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5"/>
          <p:cNvSpPr/>
          <p:nvPr/>
        </p:nvSpPr>
        <p:spPr>
          <a:xfrm>
            <a:off x="324000" y="1341360"/>
            <a:ext cx="4114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alkali met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380880" y="2708280"/>
            <a:ext cx="4876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transition met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7"/>
          <p:cNvSpPr/>
          <p:nvPr/>
        </p:nvSpPr>
        <p:spPr>
          <a:xfrm>
            <a:off x="611280" y="4221000"/>
            <a:ext cx="3733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halog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8"/>
          <p:cNvSpPr/>
          <p:nvPr/>
        </p:nvSpPr>
        <p:spPr>
          <a:xfrm>
            <a:off x="4788000" y="422100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noble g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Every element is made up of very small particles called 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marL="291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s.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7543800" y="52578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7"/>
          <p:cNvSpPr/>
          <p:nvPr/>
        </p:nvSpPr>
        <p:spPr>
          <a:xfrm>
            <a:off x="0" y="1773360"/>
            <a:ext cx="9144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s of different elements have a different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number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called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ic numb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0" y="357336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s have a very small,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positively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charged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nucleu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,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with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egatively charged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outside the nucleus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energy leve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nucleu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f every atom (except hydrogen) contains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two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particles: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0" y="256536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eutron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(no charge / mass 1amu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0" y="3809880"/>
            <a:ext cx="9144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In </a:t>
            </a:r>
            <a:r>
              <a:rPr b="1" lang="en-GB" sz="4000" spc="-1" strike="noStrike">
                <a:solidFill>
                  <a:srgbClr val="ab04cc"/>
                </a:solidFill>
                <a:latin typeface="Times New Roman"/>
              </a:rPr>
              <a:t>energy level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utside the nucleus we f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7"/>
          <p:cNvSpPr/>
          <p:nvPr/>
        </p:nvSpPr>
        <p:spPr>
          <a:xfrm>
            <a:off x="0" y="180324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2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Proton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(+ve charge / mass 1amu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8"/>
          <p:cNvSpPr/>
          <p:nvPr/>
        </p:nvSpPr>
        <p:spPr>
          <a:xfrm>
            <a:off x="0" y="51055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(–ve charge / mas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   1/2000amu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s are neutral because 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positive charg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f 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nucleu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is equal to all of the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egative charge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f the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added together.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3581280" y="2438280"/>
            <a:ext cx="3353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11 electr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581280" y="29718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egative charge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286000" y="43434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cc02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1 positive char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"/>
          <p:cNvSpPr/>
          <p:nvPr/>
        </p:nvSpPr>
        <p:spPr>
          <a:xfrm flipV="1">
            <a:off x="2268360" y="2781360"/>
            <a:ext cx="1371600" cy="7632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1"/>
          <p:cNvSpPr/>
          <p:nvPr/>
        </p:nvSpPr>
        <p:spPr>
          <a:xfrm>
            <a:off x="1676520" y="3276720"/>
            <a:ext cx="685800" cy="761760"/>
          </a:xfrm>
          <a:prstGeom prst="line">
            <a:avLst/>
          </a:prstGeom>
          <a:ln w="1260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286000" y="38862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cc02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1 prot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376200" y="4937040"/>
            <a:ext cx="876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tom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  <a:ea typeface="Times New Roman"/>
              </a:rPr>
              <a:t> are neutral because 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h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  <a:ea typeface="Times New Roman"/>
              </a:rPr>
              <a:t>numbers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of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  <a:ea typeface="Times New Roman"/>
              </a:rPr>
              <a:t>protons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nd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ns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r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  <a:ea typeface="Times New Roman"/>
              </a:rPr>
              <a:t>equal - the opposite charges cance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clide notation – how many protons, neutrons, and electrons in ato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6443640" y="2492280"/>
            <a:ext cx="93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129528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ass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protons + neutr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7010280" y="2362320"/>
            <a:ext cx="1440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443640" y="328464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0" y="28195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ic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number of prot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156360" y="3284640"/>
            <a:ext cx="380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6443640" y="400536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0" y="4114800"/>
            <a:ext cx="5181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mber of neutr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5076720" y="2205000"/>
            <a:ext cx="1371600" cy="45720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3851280" y="3141720"/>
            <a:ext cx="2592360" cy="35856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5"/>
          <p:cNvSpPr/>
          <p:nvPr/>
        </p:nvSpPr>
        <p:spPr>
          <a:xfrm flipV="1">
            <a:off x="4788000" y="4368600"/>
            <a:ext cx="1671480" cy="6804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0" y="487692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s have no charg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, the number of electron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is the sam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as the number of protons. This atom has 17 electro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228600" y="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clide notation – how many protons, neutrons, and electrons in 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6372360" y="1628640"/>
            <a:ext cx="761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12193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ass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protons + neutr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877080" y="1773360"/>
            <a:ext cx="2266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5da31e"/>
                </a:solidFill>
                <a:latin typeface="Times New Roman"/>
              </a:rPr>
              <a:t>Na</a:t>
            </a:r>
            <a:r>
              <a:rPr b="1" lang="en-GB" sz="9600" spc="-1" strike="noStrike" baseline="30000">
                <a:solidFill>
                  <a:srgbClr val="5da31e"/>
                </a:solidFill>
                <a:latin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443640" y="2492280"/>
            <a:ext cx="762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0" y="25909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ic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number of prot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084720" y="2492280"/>
            <a:ext cx="381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radley Hand ITC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6443640" y="306864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0" y="3860640"/>
            <a:ext cx="5181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mber of neutr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3492360" y="1557360"/>
            <a:ext cx="2808360" cy="35892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3851280" y="2924280"/>
            <a:ext cx="2160720" cy="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3"/>
          <p:cNvSpPr/>
          <p:nvPr/>
        </p:nvSpPr>
        <p:spPr>
          <a:xfrm flipV="1">
            <a:off x="4788000" y="3500280"/>
            <a:ext cx="1655640" cy="64800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1066680" y="4648320"/>
            <a:ext cx="8077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1+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charge means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electron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les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than the number of protons. This atom has 10 electron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5"/>
          <p:cNvSpPr/>
          <p:nvPr/>
        </p:nvSpPr>
        <p:spPr>
          <a:xfrm flipV="1">
            <a:off x="4495680" y="2590920"/>
            <a:ext cx="4191120" cy="220968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02:03:51Z</dcterms:created>
  <dc:creator>Brouchamp Xavier</dc:creator>
  <dc:description/>
  <dc:language>en-US</dc:language>
  <cp:lastModifiedBy>RomaK</cp:lastModifiedBy>
  <dcterms:modified xsi:type="dcterms:W3CDTF">2015-09-01T16:17:06Z</dcterms:modified>
  <cp:revision>118</cp:revision>
  <dc:subject/>
  <dc:title>Atoms and the periodic table</dc:title>
</cp:coreProperties>
</file>